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Click to move the slide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E23E-4814-4883-B997-53721461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A53-7DC8-4C2C-B70E-ACEE9119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D1F-8A0F-47A2-BE23-D2EB77CC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307-D340-4F4B-8009-27C030A8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0B0-3F71-486F-BF1B-FC9B710B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A60-BADA-4D98-8C77-4C7824B3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51D-BFFE-413F-B21A-953CBB12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B83-2B25-4E4C-91FB-A5215CB1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BB0-D2FE-46FA-A08A-9CAA64C2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6DF-1463-4774-9D3A-A3E1C444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3F9-C4EC-423C-83D3-3C1D6A5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589-17CB-4C3D-AA62-D4BBD362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F56-32B3-439A-8CE0-7790CA5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A2D-1147-4319-B0B4-B746C06192AD}" type="datetime">
              <a:rPr b="0" lang="en-US" sz="1400" spc="-1" strike="noStrike">
                <a:solidFill>
                  <a:srgbClr val="99cc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굴림"/>
              </a:rPr>
              <a:t>Team L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C0BA-AF0A-4AEE-A889-68EEDEDF418B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0" cy="5257800"/>
          </a:xfrm>
          <a:prstGeom prst="line">
            <a:avLst/>
          </a:prstGeom>
          <a:ln w="228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5257800"/>
            <a:ext cx="0" cy="1600200"/>
          </a:xfrm>
          <a:prstGeom prst="line">
            <a:avLst/>
          </a:prstGeom>
          <a:ln w="228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Team 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go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: Project Proposals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Pediatric Health Center of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navar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seon Ch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536-A62C-470C-BA18-D1872D6C64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0444-3120-47EE-A5C1-45B787B753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ximity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62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50440" y="5943600"/>
            <a:ext cx="4039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hildren’s medical center of Dayt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7 ICU design winn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5D5-A4A8-4DAF-87A3-0225C25D85D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C0B09-77A1-4F71-8845-042AA26450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610480" cy="5522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ximit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굴림"/>
              </a:rPr>
              <a:t>– always near their child</a:t>
            </a:r>
            <a:br>
              <a:rPr sz="2400"/>
            </a:b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572000"/>
            <a:ext cx="2362320" cy="20574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395520"/>
            <a:ext cx="1600200" cy="1100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1219320"/>
            <a:ext cx="2133720" cy="21272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97760" y="1676160"/>
            <a:ext cx="963720" cy="4496040"/>
            <a:chOff x="7097760" y="1676160"/>
            <a:chExt cx="963720" cy="4496040"/>
          </a:xfrm>
        </p:grpSpPr>
        <p:sp>
          <p:nvSpPr>
            <p:cNvPr id="96" name=""/>
            <p:cNvSpPr/>
            <p:nvPr/>
          </p:nvSpPr>
          <p:spPr>
            <a:xfrm>
              <a:off x="7162920" y="5334120"/>
              <a:ext cx="838080" cy="152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97760" y="5398920"/>
              <a:ext cx="217440" cy="773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238880" y="3733560"/>
              <a:ext cx="822600" cy="19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238880" y="2590560"/>
              <a:ext cx="76212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162920" y="1676160"/>
              <a:ext cx="0" cy="1066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7B0-EB33-4BF4-955C-B7C628CAFC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76A6A-95F1-4B12-B05A-1BDCCA71F9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610480" cy="5522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굴림"/>
              </a:rPr>
              <a:t>Proximity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4572000"/>
            <a:ext cx="2362320" cy="20574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395520"/>
            <a:ext cx="1600200" cy="1100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1219320"/>
            <a:ext cx="2133720" cy="21272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1800" y="53352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 Territoriality, Security, 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219320"/>
            <a:ext cx="5562720" cy="55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ocket family areas which are assigned to specific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atient rooms near b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erritoriality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– recognized as their spa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Security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asy to identify person who us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area &amp; card 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ersonalization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ossible to bring their chil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own toys or belongings and to use as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AFA-527D-48C5-AB07-A8FF55AB4B5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791EE-CEC5-4D85-BAAE-774AE3DEEA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610480" cy="5522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 Narrow"/>
                <a:ea typeface="굴림"/>
              </a:rPr>
              <a:t>Proximity + Territoriality, Security, Personalization +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social interaction</a:t>
            </a:r>
            <a:br>
              <a:rPr sz="2400"/>
            </a:b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572000"/>
            <a:ext cx="2362320" cy="20574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395520"/>
            <a:ext cx="1600200" cy="1100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1219320"/>
            <a:ext cx="2133720" cy="21272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219320"/>
            <a:ext cx="5562720" cy="55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00"/>
                </a:solidFill>
                <a:latin typeface="Arial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Frequency of family encounter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asy to encounter same family members and be familiar with each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Interaction between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motional and informational suppor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from each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525-FDD5-4A7F-8387-8FB1C5D804D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93E00-E24F-41B5-878B-07AD2868C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Steps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Customize pocket family are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acuity level of patients in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ype of diseases in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Introduce technologies to meet family nee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Come up with a proper size of pocket family are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Come up with the layout of customized pocket family are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99D-71D1-4421-801F-9029ED31BE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D6AEA-1CFD-4B33-80A5-B7788059DE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Narrow"/>
              </a:rPr>
              <a:t>Principle and Problem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two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incip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rovide caring, devoted, fast (reduced waiting time) service in the emergency depart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oblem Definition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Design an Emergency Department that h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d waiting-time and congestion in 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fficient patient hand-over from ambulance to 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technology and mobile telephony to reduce the time for diagnosis and improve the turn around tim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3E5-59D3-4B4B-A764-909900819F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B4C76-7776-428C-AA4A-983D02B384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Why focus on this problem?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0,000 + annual patient vis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st of them are for non-urgent 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nsured families turn to the Emergency Department for primary 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verwhelming rush during peak ti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gestion leading to overflowing check-in area and cramped hallw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 is patient privacy in such chaotic environment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urrent facility layout also impedes operational efficiency. In a pediatric healthcare setting, every second counts. Yet minutes and hours are wasted transporting children to areas that should be located side by side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:http://www.choa.org/Menus/Documents/Aboutus/hsoc/about_hughesspalding.pd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16D-44F6-45DE-8D4E-6F880B99EE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6E19E-DDC4-4D08-B30D-9A9F947702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Focus Idea 1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duce waiting time and create a healthy healing enviro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idence based design for ED [R6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nical practice guidelines for specialty care like asthma [R1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proving service at Triage (Bottleneck in ED is Triage!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am consulting in Triage [R3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ypothesis: A doctor and nurse team investigating patients can reduce the number of patient redirections in the ED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duced waiting time and conges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ini Registration in Triage [R2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4251240" cy="151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3535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EB0-EF9F-4A18-99CF-3492716041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B37F9-0364-4FFE-9CE2-94D95E189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Focus Idea 2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mprove the patient handover at different stages through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ategic location of ambulance bay based on traff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ign of Ambulance bay to avoid congestion and bottle necks due to the incoming patient flo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location of bed and preliminary setup of ED before arrival of patient based on the initial diagnosis done on the patient during trans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fficient transfer of patients to Grady for advanced exam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walkways like in air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some overhead vision glas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110-81F0-4CA5-BE47-B16E0B7C85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096FA-1CEC-45CA-9254-2E9DFB5517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Focus Idea 3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proved technology enabled patient handover from ambulance to ED [R4, R5, R7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mission of Electronic ambulance record including vital sign information and EC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4s vs 7min (accomplished by using computers and mobile wireless network availab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could try to transmit necessary info using cell ph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5437080" cy="22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908-4673-4F6C-82E4-0559D0237D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2AE32-C10B-4BBC-A275-B0D0D19505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Principle and Problem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one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inciple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hysical environment to foster social interaction and support for patients and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oblem Definition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current design of family area doesn’t encourage interactions between other family members and leave out the important source of social support for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BEB-67A4-4BCE-9E91-95FD0F1F27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03566-73F0-4E76-9307-64357F0619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References [1]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1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dert J., Ramsden C.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4. Introduction of standardized emergency department pediatric asthma clinical guidelines into a general metropolitan hospital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ccident and Emergency Nur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2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Gorelick M., Yen K., Yun H.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4. The Effect of In-Room Registration on Emergency Department Length of Stay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nnals of Emergency Medic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3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 Subash, F Dunn, B McNicholl, J Marlow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4. Team triage improves emergency department efficiency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mergency Medicine Jour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4: V. Anantharaman, L. Han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1. Hospital and emergency ambulance link: using IT to enhance emergency pre-hospital care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ternational Journal of Medical Informa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97E-F62C-4118-A119-8F4766AC3C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97275-4FD3-4C86-A5CC-FA54B01E5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References [2]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5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 Jenkin, N. A. Mitchell, S Cooper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7. Patient handover: Time for a change?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ccident and Emergency Nur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6: W. B. Millard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7. The cost of KOI: Evidence-Based design in emergency medical facilities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nnals of Emergency Medic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7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tiris Pavlopoulos, Efthyvoulos Kyriacou, Alexis Berler, Spyros Dembeyiotis, and Dimitris Koutsouris : A Novel Emergency Telemedicine System based on Wireless Communication Technology—AMBUL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D4E-2598-41A1-96E5-35B3A30D32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C04BA-2A5A-48A0-A0C1-E911071438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Interesting Resources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statcom.com/flash/loader.html (Patient flow simulator; dashboard s/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ww.archnewsnow.com/features/Feature37.htm (River Region Medical Center in Vicksburg, Mississipp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B5E-8962-430D-93B8-E1DF9B2519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92023-281B-4065-A7A2-C649F5151B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1066680"/>
            <a:ext cx="3733920" cy="563904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066680"/>
            <a:ext cx="3733920" cy="563904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blem one – no interactions occurs between other family members</a:t>
            </a:r>
            <a:r>
              <a:rPr b="0" lang="en-US" sz="25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500" spc="-1" strike="noStrike">
              <a:solidFill>
                <a:srgbClr val="99cc00"/>
              </a:solidFill>
              <a:latin typeface="Arial Narrow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5760" y="1676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8576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7692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876920" y="16383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23640" y="1066680"/>
            <a:ext cx="271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family area in Pediatr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tensive Care Unit at MC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440" y="1066680"/>
            <a:ext cx="258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family area in 4th fl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t M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78E-1FF7-4C10-80E9-7E78D9A7541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B4EB0-3626-4B74-8F3E-5DE042B6CD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The Patient room at MCG Children’s hospital</a:t>
            </a:r>
            <a:r>
              <a:rPr b="0" lang="en-US" sz="20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000" spc="-1" strike="noStrike">
              <a:solidFill>
                <a:srgbClr val="99cc00"/>
              </a:solidFill>
              <a:latin typeface="Arial Narrow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197240" y="1452600"/>
            <a:ext cx="3041640" cy="197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>
            <a:lum bright="24000"/>
          </a:blip>
          <a:srcRect l="0" t="13154" r="0" b="0"/>
          <a:stretch/>
        </p:blipFill>
        <p:spPr>
          <a:xfrm>
            <a:off x="990720" y="1447920"/>
            <a:ext cx="304164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791320" y="3657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90720" y="365760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5867280" y="1447920"/>
            <a:ext cx="3041640" cy="198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61120" y="6095880"/>
            <a:ext cx="2182680" cy="533520"/>
          </a:xfrm>
          <a:prstGeom prst="wedgeRoundRectCallout">
            <a:avLst>
              <a:gd name="adj1" fmla="val 40254"/>
              <a:gd name="adj2" fmla="val -200893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4400" y="617220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ivate refrig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14400"/>
            <a:ext cx="1905120" cy="533520"/>
          </a:xfrm>
          <a:prstGeom prst="wedgeRoundRectCallout">
            <a:avLst>
              <a:gd name="adj1" fmla="val 28500"/>
              <a:gd name="adj2" fmla="val 113393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62480" y="9907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ivate bath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62240"/>
            <a:ext cx="2438280" cy="723960"/>
          </a:xfrm>
          <a:prstGeom prst="wedgeRoundRectCallout">
            <a:avLst>
              <a:gd name="adj1" fmla="val 30796"/>
              <a:gd name="adj2" fmla="val -123245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352680"/>
            <a:ext cx="23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ull body length so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990720"/>
            <a:ext cx="990360" cy="533160"/>
          </a:xfrm>
          <a:prstGeom prst="wedgeRoundRectCallout">
            <a:avLst>
              <a:gd name="adj1" fmla="val 44388"/>
              <a:gd name="adj2" fmla="val 233333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4840" y="106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D9D-CDE1-4A97-8FF3-F572119B3B2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D9568-3CE4-4356-9088-CE695C8376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on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Families comforting one another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resence of other family members soothes family members’ emotional suffering by comforting one another in trauma resuscitation room (Morse and Pooler 2002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Family members who are familiar with surroundings gave the patient and other family memb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reassuranc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of the care (“I’ve worked with these guys; they are good”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encourag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(“Don’t worry; she is heading in the right direction”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information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“The analgesic will be working soon”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Morse and Pooler 200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079-874A-4CB6-89A6-39ADEED121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159B1-72E0-4322-90F4-227AC52350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two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family needs in ICU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considerable amount of studies identifi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5 needs of families in the ICU settings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assur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proxim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comfort need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Molter, 1987; Bouman, 1984; Daley, 1984; Leske, 1986; Norris &amp; Grove, 1986; Price, Forrester, Murphy, &amp; Monaghan, 199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765-DD6F-40E9-9071-5ED2BC2813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3521D-B2DB-45C3-B13C-9A7E9E08EB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thre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spatial needs for families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survey result collected from 155 nursing staff indicated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needs of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peaceful place for discuss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for interaction between family members and nurses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tedt-Kurk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t al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1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27% out of 48 family members commented on the need for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improved physical spa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to have family discussion and conference with physicians (Abbott, 2001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wo of parameters considered to be important for ICU settings were;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1) waiting room availability’; 2) room availability for family information availabl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Azoulay, 2002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8C2-5F9C-48F1-A347-3A672CC81D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08404-BC6C-4ED0-A239-0ECECBBA8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thre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ximity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A private family area with a patient room meets this proximity need but it is also limiting the source of other needs such as informational, assurance, and suppor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ersonal experience: 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did not want to be far from her, but to give her any kind of privacy or quie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re was no place nearby to g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. 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we sat in the hallway outside her room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DBE-E0C0-4733-A126-A00FDF0331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6D63A-7711-4082-B6B1-F4A5DDFB22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ject idea on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Customized Pocket Family area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To meet five needs of family memb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assu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sup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proximit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comfort need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To foster interaction between families of other pati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Territori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Secur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Personaliz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Frequency of encount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Inter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Social support – informational and emotion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1CC-E357-48EC-9F37-A0E5AE960A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308D3-29A0-43E6-9E34-096174B533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8:42:16Z</dcterms:created>
  <dc:creator>gtg977i</dc:creator>
  <dc:description/>
  <dc:language>en-US</dc:language>
  <cp:lastModifiedBy>gtg977i</cp:lastModifiedBy>
  <dcterms:modified xsi:type="dcterms:W3CDTF">2007-10-11T20:35:05Z</dcterms:modified>
  <cp:revision>462</cp:revision>
  <dc:subject/>
  <dc:title>The effect of family friendly environment on family involvement in care and its potential role in improving quality of care</dc:title>
</cp:coreProperties>
</file>